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03D3-61B3-45EB-AAA2-5FD998EAD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B0CF-B21A-43EB-8EF4-044913165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6947-F70F-4B5E-9D38-8DE1CE1E3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CDF0-4151-4B46-B5BA-F89A95F03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5BF5-3AE1-4B9E-A11E-7034836E4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7163-8E57-4C5F-A828-42FA6FCE4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E692-C2E2-4893-8C51-44299EC8C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1888-097C-4C95-91AC-D8CAEA697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70CA-B896-434C-8A05-7DD5251BF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5283-B672-4B2E-B228-0BC1AA952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1D0A-4394-4930-86F1-B39A1A0F7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DA4A-345D-4729-ACE2-DC607FC1B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923-117C-4AE9-8A76-973681D3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0536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Remote Debugg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 Debugging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läuft auf Entwicklungsrechner problem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 dem Produktivsystem passiert „gar nicht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auf Zielrechner remote debug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Visual Studio 2005 sehr viel einfacher als b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Remote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s Remote Debugging Monitors (msvsmon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von einer Netzfreigabe gestar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allation ist ebenfalls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ternativ lässt sich ein Dienst konfigur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rtfreigaben können automatisch konfigurier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2565360"/>
          <a:ext cx="56926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56926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Host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Host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Source-Code der Anwend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bindung zum Prozess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meldung am Remote-Rechner ist nur über einen Benutzer mit Administratorrechten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Kommunikation muss ggf. in der Firewall freigegeben s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ck: Auf Remote-Computer gleichen UserName und Passwort wie auf Host einrichten (ggf. Policy auf Host änder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Ports: TCP 135, ggf. UDP 4500 und 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For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in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r Anwendung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-Informationen müssen vorhanden sein (pdb-Date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Prozess auf dem Remote-Rechner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as Programm dort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m auf dem Remote-Rechner ausfüh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gramm hält am Breakpoint auf dem Hos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eb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IIS-Dienst (aspnet_wp.exe oder w3wp.exe)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ie WebSite ausgeführt wi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ruf der WebSite im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 muss in web.config aktiviert sein (debug =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Debugger hält die WebSite am Breakpoin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chtung: Alle WebSites dieses IIS-Prozesses werden angehal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bindung h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47760" y="1814400"/>
            <a:ext cx="66470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Stefan Lange</dc:creator>
  <dc:description/>
  <dc:language>en-US</dc:language>
  <cp:lastModifiedBy>Stefan Lange</cp:lastModifiedBy>
  <dcterms:modified xsi:type="dcterms:W3CDTF">2006-05-18T17:26:41Z</dcterms:modified>
  <cp:revision>224</cp:revision>
  <dc:subject/>
  <dc:title>Remote Debugging</dc:title>
</cp:coreProperties>
</file>